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4973-AB1B-4F36-B144-5F802E93F4A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ECF1-C65C-48FB-B50D-125DB2848C9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6F25-DCCE-4508-9E39-DDADDAD1AB3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610C-D208-43BC-BE92-5144CF24241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255D-1F89-43CA-A2BE-0805FF34BBA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0AF5-303A-478B-BA55-B07716EFECD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392F-A9F6-463E-9676-3E7329B8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8A2-909B-44A7-ABA7-07A44F25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9EB9-11A0-497B-B4F8-11C96007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925-00C6-4DD7-8651-7F4DCB76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3B5-9DA6-48CD-89D6-E466B15E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D84-A86C-40A1-8F11-278FA09B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20F2-D280-415F-A32D-B0EBE3E8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860-0579-4915-9EFE-83187172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C26-C335-4B9F-9E12-C547F3A1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5B9-796E-410F-B74B-4EB096BB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E58-72F5-4681-95C1-A0A2D3F9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189-B0EA-4E8D-855F-DFEDBC41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75B5-5A09-4D2E-B4A5-B02B9189A1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mniki</a:t>
            </a:r>
            <a:br>
              <a:rPr sz="6000"/>
            </a:br>
            <a:r>
              <a:rPr b="1" lang="pl-PL" sz="4000" spc="-1" strike="noStrike">
                <a:solidFill>
                  <a:srgbClr val="996600"/>
                </a:solidFill>
                <a:latin typeface="Goudy Stout"/>
              </a:rPr>
              <a:t>w</a:t>
            </a: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 </a:t>
            </a:r>
            <a:br>
              <a:rPr sz="6000"/>
            </a:b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ls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yrenka Warszawsk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4" descr="IM000348.JPG"/>
          <p:cNvPicPr/>
          <p:nvPr/>
        </p:nvPicPr>
        <p:blipFill>
          <a:blip r:embed="rId1"/>
          <a:srcRect l="22157" t="0" r="27891" b="0"/>
          <a:stretch/>
        </p:blipFill>
        <p:spPr>
          <a:xfrm>
            <a:off x="571680" y="1214280"/>
            <a:ext cx="3357360" cy="504036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renka Warszawska jest symbolem Warszaw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j pomnik stoi nad brzegiem Wis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ryderyk Chop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3"/>
          <p:cNvSpPr/>
          <p:nvPr/>
        </p:nvSpPr>
        <p:spPr>
          <a:xfrm>
            <a:off x="4714920" y="2500200"/>
            <a:ext cx="350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yderyk Chopin był polskim kompozytore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piani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en z najbardziej znanych pomników Chopina sto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arku Łazienkowskim w Warsza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az 3" descr="szopen.jpg"/>
          <p:cNvPicPr/>
          <p:nvPr/>
        </p:nvPicPr>
        <p:blipFill>
          <a:blip r:embed="rId1"/>
          <a:stretch/>
        </p:blipFill>
        <p:spPr>
          <a:xfrm>
            <a:off x="571680" y="1214280"/>
            <a:ext cx="33508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ontanna Neptun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ntanna Neptuna jest symbolem Gdań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zeźba przedstawia boga mórz i oceanów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ept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az 6" descr="neptun.jpg"/>
          <p:cNvPicPr/>
          <p:nvPr/>
        </p:nvPicPr>
        <p:blipFill>
          <a:blip r:embed="rId1"/>
          <a:srcRect l="5714" t="0" r="2854" b="0"/>
          <a:stretch/>
        </p:blipFill>
        <p:spPr>
          <a:xfrm>
            <a:off x="571680" y="1214280"/>
            <a:ext cx="3429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mok Wawelsk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4572000" y="1785960"/>
            <a:ext cx="350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moka Wawelskiego ustawiono na pamiątkę legen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 smoku, który gnębił krakowian za rządów króla Kr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toi przed wejściem do Smoczej Jamy, nad Wisł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ko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5" descr="smok1.jpg"/>
          <p:cNvPicPr/>
          <p:nvPr/>
        </p:nvPicPr>
        <p:blipFill>
          <a:blip r:embed="rId1"/>
          <a:srcRect l="9619" t="0" r="2127" b="0"/>
          <a:stretch/>
        </p:blipFill>
        <p:spPr>
          <a:xfrm>
            <a:off x="642960" y="1285920"/>
            <a:ext cx="3357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49640" y="30715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Goudy Stout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8840" y="4857480"/>
            <a:ext cx="62150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Prezentację przygotował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Grażyna Ko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07:42Z</dcterms:created>
  <dc:creator>Grazyna</dc:creator>
  <dc:description/>
  <dc:language>en-US</dc:language>
  <cp:lastModifiedBy>Grazyna</cp:lastModifiedBy>
  <dcterms:modified xsi:type="dcterms:W3CDTF">2010-02-16T18:50:41Z</dcterms:modified>
  <cp:revision>22</cp:revision>
  <dc:subject/>
  <dc:title>Slajd 1</dc:title>
</cp:coreProperties>
</file>